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8259-FBFC-4259-9A83-BEC2D11492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E2C4-2E9F-4566-BCC8-81A2428671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B76E-B4D6-45F1-8068-EFFE65C6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3D33-39C8-4ECE-813F-1A66F872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6A6F-8FDF-47C9-AD83-3CDD38FD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DFA9-BF95-42F3-B83B-BC1084F4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2069-9D18-4B0F-9AAA-44686DE6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2CB9-AE2A-4F9B-897A-42BB7CD7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BC07-A4A8-42D8-9199-FC16C6D0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27DF-02B8-4485-BD27-5E2F6806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6F49-E7D1-4C04-A852-8172F92C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71A0-1586-4D3B-BF3C-787800D1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9713-E601-4A55-A6F9-C21D8926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E8C5-B8EA-43A1-9D3D-A82FC852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CC50-B540-49E6-BB53-DEDDF399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3C0B-7EEA-4ADD-B910-62F33603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7B3C-1EBB-4A97-8352-ABF8BB4F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6679-70EC-4FD4-8AD2-FFE700BE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FAE4-4DD6-4986-82B8-52DD0A5E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2095F0-6E87-4DB2-9E1F-8A88C028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BBFFF3-11CA-45E3-9320-42C5FBDC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9DA063-23F8-4715-9712-DCCF0CC5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4C7FF-AAD6-41A7-AF80-B90DF647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CA045A-E318-4B0F-8150-690B2EE8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E03F-28ED-4966-A08B-4CEB18B1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A94224-9068-46AB-B4D2-107CB9E6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E11645-394A-4B9B-BB5D-3E06F429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763B90-6292-4110-97A7-0280030F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27C1D9-A3B8-494F-9B36-E6DE547F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80B338-9E32-4330-90D5-B8CCAE88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322BD0-9BA3-47E4-ACBC-AA8D7B78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C27B4A-5130-4080-AEAC-3647DAA7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8AC60-7202-4E99-94C2-677F49E9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BF9E7-DF12-444C-8605-2E0F36D5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C4161-9793-469F-AA10-7485C7FD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8D83-2E71-4A22-9773-7632B6E4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D28F0-90FA-4A4A-8AC7-E5E1E890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23FB6-401B-4CCE-82DB-E538534A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00A26-F3F1-44C1-B6EC-C47005DF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24AD8-178C-4C71-9C33-1619186F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0EF07-5B6B-4ED8-8B97-E680B6F1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3E0D5-F05E-47FF-8102-F9E555D0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41A27-FAE2-4DFE-8A8A-4F43D94A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B0D0E-0239-4A3D-996D-1D1683ED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ABE8A-EDE3-42E6-94A2-C66202CF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F1587-027F-45C1-8CC6-DD5B859D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DC60-EC44-4527-87C4-538878B0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E721A-91EA-4200-A7AE-4342F20E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814F1-A257-41BA-90AA-7B9A0F02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B37C3-3773-4F51-8A87-239D91AF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B722D-4A94-44F5-AFA4-08641EBA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B47E2-0F42-4C2C-9DDE-9255E578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7A378-5A8E-4A46-950A-E26545FB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41F62-132A-4D86-97BB-95987239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B9E46-AB11-4B35-9B27-CD4A5BB7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7E56D-5C96-44BF-A435-1A8A1ABC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CF5F2-A6E7-4340-A887-83D3E35F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B131-8572-4141-BF9D-0D1E9DD6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D7F26-DCE0-46B6-9409-76638612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5D51-499C-4225-B15E-078D77F8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EBF7-D4B1-421C-92AE-78EB47E1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ADAD-E363-4A4C-B69E-8EC0B23C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ac66b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EC86-108B-4550-B522-89207B207BC0}" type="datetime">
              <a:rPr b="0" lang="ru-RU" sz="800" spc="-1" strike="noStrike">
                <a:solidFill>
                  <a:srgbClr val="ac66bb"/>
                </a:solidFill>
                <a:latin typeface="Arial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ac66b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ac66bb"/>
                </a:solidFill>
                <a:latin typeface="Arial"/>
              </a:rPr>
              <a:t>Суслина С.А. учитель химии МОУ СОШ № 31 г.Владимир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6F7F-0598-4236-AA16-3C385030DE7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ac66bb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ac66bb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ac66bb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ac66b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DEEC-55FF-429C-A52B-D272E7EE587A}" type="datetime">
              <a:rPr b="0" lang="ru-RU" sz="800" spc="-1" strike="noStrike">
                <a:solidFill>
                  <a:srgbClr val="ac66bb"/>
                </a:solidFill>
                <a:latin typeface="Arial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ac66b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ac66bb"/>
                </a:solidFill>
                <a:latin typeface="Arial"/>
              </a:rPr>
              <a:t>Суслина С.А. учитель химии МОУ СОШ № 31 г.Владимир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AE7E-AC00-414C-B43B-FA59F8F068C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ac66b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E502-0FC1-47E5-9A3E-59DB21C06FDC}" type="datetime">
              <a:rPr b="0" lang="ru-RU" sz="800" spc="-1" strike="noStrike">
                <a:solidFill>
                  <a:srgbClr val="ac66bb"/>
                </a:solidFill>
                <a:latin typeface="Arial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DF66-86DA-4CBC-A9AE-3A56B443C1B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ac66b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ac66bb"/>
                </a:solidFill>
                <a:latin typeface="Arial"/>
              </a:rPr>
              <a:t>Суслина С.А. учитель химии МОУ СОШ № 31 г.Владимир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ac66b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573A-10A6-42D6-A4C9-67EA40432F95}" type="datetime">
              <a:rPr b="0" lang="ru-RU" sz="800" spc="-1" strike="noStrike">
                <a:solidFill>
                  <a:srgbClr val="ac66bb"/>
                </a:solidFill>
                <a:latin typeface="Arial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ac66b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ac66bb"/>
                </a:solidFill>
                <a:latin typeface="Arial"/>
              </a:rPr>
              <a:t>Суслина С.А. учитель химии МОУ СОШ № 31 г.Владимир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8FF2-FB82-4BB0-9121-1D5D5649032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19"/>
          <p:cNvGrpSpPr/>
          <p:nvPr/>
        </p:nvGrpSpPr>
        <p:grpSpPr>
          <a:xfrm>
            <a:off x="0" y="11160"/>
            <a:ext cx="9142200" cy="6845400"/>
            <a:chOff x="0" y="11160"/>
            <a:chExt cx="9142200" cy="6845400"/>
          </a:xfrm>
        </p:grpSpPr>
        <p:sp>
          <p:nvSpPr>
            <p:cNvPr id="215" name="AutoShape 20"/>
            <p:cNvSpPr/>
            <p:nvPr/>
          </p:nvSpPr>
          <p:spPr>
            <a:xfrm>
              <a:off x="0" y="11160"/>
              <a:ext cx="9142200" cy="68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1"/>
            <p:cNvSpPr/>
            <p:nvPr/>
          </p:nvSpPr>
          <p:spPr>
            <a:xfrm>
              <a:off x="1413720" y="1058040"/>
              <a:ext cx="7728480" cy="5698440"/>
            </a:xfrm>
            <a:prstGeom prst="pie">
              <a:avLst/>
            </a:prstGeom>
            <a:solidFill>
              <a:srgbClr val="ffff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2"/>
            <p:cNvSpPr/>
            <p:nvPr/>
          </p:nvSpPr>
          <p:spPr>
            <a:xfrm>
              <a:off x="766440" y="722520"/>
              <a:ext cx="8295840" cy="5998320"/>
            </a:xfrm>
            <a:prstGeom prst="pie">
              <a:avLst/>
            </a:prstGeom>
            <a:solidFill>
              <a:srgbClr val="b83d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3"/>
            <p:cNvSpPr/>
            <p:nvPr/>
          </p:nvSpPr>
          <p:spPr>
            <a:xfrm>
              <a:off x="0" y="11160"/>
              <a:ext cx="8680320" cy="6845400"/>
            </a:xfrm>
            <a:prstGeom prst="pie">
              <a:avLst/>
            </a:prstGeom>
            <a:solidFill>
              <a:srgbClr val="99ccff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79ED-A563-4C24-9C03-7EE57164784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05120" y="2133360"/>
            <a:ext cx="7238880" cy="32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rebuchet MS"/>
              </a:rPr>
              <a:t>Технология развития критического мышления</a:t>
            </a:r>
            <a:endParaRPr b="0" lang="en-US" sz="4800" spc="-1" strike="noStrike">
              <a:solidFill>
                <a:srgbClr val="b13f9a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Trebuchet MS"/>
              </a:rPr>
              <a:t>Осмысление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едлагает опорный текст по тем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рганизует процессы чтения, обсуждения, понимания, дискусси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правляет групповой динамикой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ддерживает мотивацию и цел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чит работать сообща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45080" y="1904760"/>
            <a:ext cx="3813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ключается в процессы чтения, обсуждения, дискусси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частвует в групповом взаимодействи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дкрепляет и делает коррекцию своих целей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лушает, задает вопросы, пишет, выделяет главные моменты в новой информаци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чится работать сообща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Trebuchet MS"/>
              </a:rPr>
              <a:t>Рефлексия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33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ЧИТЕЛЬ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правляет подведением итог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тавит новые вопросы и задачи на будуще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ценивает деятельность ученика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4720" y="2057400"/>
            <a:ext cx="3660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ЧЕНИК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уммирует в групповой работе весь изученный материа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Задает вопросы на будуще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елает самооценку своей деятельности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76360" y="2311560"/>
            <a:ext cx="6696000" cy="22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сновные методические приемы развития критического мышления</a:t>
            </a:r>
            <a:endParaRPr b="0" lang="en-US" sz="32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3708360" y="522936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Trebuchet MS"/>
              </a:rPr>
              <a:t>Стратегия «Инсерт» </a:t>
            </a:r>
            <a:br>
              <a:rPr sz="3200"/>
            </a:br>
            <a:r>
              <a:rPr b="0" lang="en-US" sz="32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ru-RU" sz="3200" spc="-1" strike="noStrike">
                <a:solidFill>
                  <a:srgbClr val="b13f9a"/>
                </a:solidFill>
                <a:latin typeface="Trebuchet MS"/>
              </a:rPr>
              <a:t>(«Условные значки»)</a:t>
            </a:r>
            <a:r>
              <a:rPr b="0" lang="en-US" sz="3200" spc="-1" strike="noStrike">
                <a:solidFill>
                  <a:srgbClr val="b13f9a"/>
                </a:solidFill>
                <a:latin typeface="Trebuchet MS"/>
              </a:rPr>
              <a:t> (1)</a:t>
            </a:r>
            <a:r>
              <a:rPr b="0" lang="ru-RU" sz="3200" spc="-1" strike="noStrike">
                <a:solidFill>
                  <a:srgbClr val="b13f9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– interactive </a:t>
            </a:r>
            <a:r>
              <a:rPr b="0" lang="ru-RU" sz="2400" spc="-1" strike="noStrike">
                <a:solidFill>
                  <a:srgbClr val="b13f9a"/>
                </a:solidFill>
                <a:latin typeface="Georgia"/>
              </a:rPr>
              <a:t>самоактивизирующая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– noting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b13f9a"/>
                </a:solidFill>
                <a:latin typeface="Georgia"/>
              </a:rPr>
              <a:t>(диалоговая)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«</a:t>
            </a:r>
            <a:r>
              <a:rPr b="1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» – уже зна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– system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b13f9a"/>
                </a:solidFill>
                <a:latin typeface="Georgia"/>
              </a:rPr>
              <a:t>системная разметка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» – ново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– effective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b13f9a"/>
                </a:solidFill>
                <a:latin typeface="Georgia"/>
              </a:rPr>
              <a:t>для эффективного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» – думал инач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- reading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amp;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b13f9a"/>
                </a:solidFill>
                <a:latin typeface="Georgia"/>
              </a:rPr>
              <a:t>чтения и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» – есть вопрос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T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– thinking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b13f9a"/>
                </a:solidFill>
                <a:latin typeface="Georgia"/>
              </a:rPr>
              <a:t>размышления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Trebuchet MS"/>
              </a:rPr>
              <a:t>Графические организаторы: </a:t>
            </a:r>
            <a:r>
              <a:rPr b="0" lang="ru-RU" sz="32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ru-RU" sz="32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ru-RU" sz="32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ru-RU" sz="32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ru-RU" sz="32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ru-RU" sz="32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ru-RU" sz="3200" spc="-1" strike="noStrike">
                <a:solidFill>
                  <a:srgbClr val="b13f9a"/>
                </a:solidFill>
                <a:latin typeface="Trebuchet MS"/>
              </a:rPr>
              <a:t>«Кластеры»</a:t>
            </a:r>
            <a:endParaRPr b="0" lang="en-US" sz="32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69284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ыделение смысловых единиц текста и их графическое оформление в определенном порядке в виде грозд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80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380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Georgia"/>
              </a:rPr>
              <a:t>Важно в тексте, с которым работаешь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buClr>
                <a:srgbClr val="de6c3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ыделить главную смысловую единицу в виде ключевого слова или словосочетания (тема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buClr>
                <a:srgbClr val="de6c3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ыделить связанные с ключевым словом смысловые единицы (категорий информации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buClr>
                <a:srgbClr val="de6c3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онкретизировать категории мнениями и фактами, которые содержаться в осваиваемой информаци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46"/>
          <p:cNvGrpSpPr/>
          <p:nvPr/>
        </p:nvGrpSpPr>
        <p:grpSpPr>
          <a:xfrm>
            <a:off x="1679400" y="2205000"/>
            <a:ext cx="6348600" cy="4394160"/>
            <a:chOff x="1679400" y="2205000"/>
            <a:chExt cx="6348600" cy="4394160"/>
          </a:xfrm>
        </p:grpSpPr>
        <p:sp>
          <p:nvSpPr>
            <p:cNvPr id="315" name="Oval 6"/>
            <p:cNvSpPr/>
            <p:nvPr/>
          </p:nvSpPr>
          <p:spPr>
            <a:xfrm>
              <a:off x="4041720" y="3975120"/>
              <a:ext cx="1476360" cy="7570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лючевое сло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7"/>
            <p:cNvSpPr/>
            <p:nvPr/>
          </p:nvSpPr>
          <p:spPr>
            <a:xfrm>
              <a:off x="2122560" y="2914560"/>
              <a:ext cx="1771560" cy="4539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атегория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8"/>
            <p:cNvSpPr/>
            <p:nvPr/>
          </p:nvSpPr>
          <p:spPr>
            <a:xfrm>
              <a:off x="2122560" y="5338800"/>
              <a:ext cx="1771560" cy="455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атегория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9"/>
            <p:cNvSpPr/>
            <p:nvPr/>
          </p:nvSpPr>
          <p:spPr>
            <a:xfrm>
              <a:off x="5665680" y="5338800"/>
              <a:ext cx="1771920" cy="455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атегория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0"/>
            <p:cNvSpPr/>
            <p:nvPr/>
          </p:nvSpPr>
          <p:spPr>
            <a:xfrm>
              <a:off x="5370480" y="2914560"/>
              <a:ext cx="1771560" cy="4539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атегория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1"/>
            <p:cNvSpPr/>
            <p:nvPr/>
          </p:nvSpPr>
          <p:spPr>
            <a:xfrm>
              <a:off x="1974960" y="3568680"/>
              <a:ext cx="442800" cy="453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12"/>
            <p:cNvSpPr/>
            <p:nvPr/>
          </p:nvSpPr>
          <p:spPr>
            <a:xfrm>
              <a:off x="1679400" y="4175280"/>
              <a:ext cx="443160" cy="453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13"/>
            <p:cNvSpPr/>
            <p:nvPr/>
          </p:nvSpPr>
          <p:spPr>
            <a:xfrm>
              <a:off x="3438360" y="6068880"/>
              <a:ext cx="443160" cy="454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4"/>
            <p:cNvSpPr/>
            <p:nvPr/>
          </p:nvSpPr>
          <p:spPr>
            <a:xfrm>
              <a:off x="2122560" y="5992920"/>
              <a:ext cx="442800" cy="455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5"/>
            <p:cNvSpPr/>
            <p:nvPr/>
          </p:nvSpPr>
          <p:spPr>
            <a:xfrm>
              <a:off x="4780080" y="6145200"/>
              <a:ext cx="442800" cy="453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6"/>
            <p:cNvSpPr/>
            <p:nvPr/>
          </p:nvSpPr>
          <p:spPr>
            <a:xfrm>
              <a:off x="5075280" y="5538960"/>
              <a:ext cx="442800" cy="453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7"/>
            <p:cNvSpPr/>
            <p:nvPr/>
          </p:nvSpPr>
          <p:spPr>
            <a:xfrm>
              <a:off x="6551640" y="6145200"/>
              <a:ext cx="442800" cy="453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8"/>
            <p:cNvSpPr/>
            <p:nvPr/>
          </p:nvSpPr>
          <p:spPr>
            <a:xfrm>
              <a:off x="7585200" y="3265560"/>
              <a:ext cx="442800" cy="453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9"/>
            <p:cNvSpPr/>
            <p:nvPr/>
          </p:nvSpPr>
          <p:spPr>
            <a:xfrm>
              <a:off x="4336920" y="3114720"/>
              <a:ext cx="443160" cy="453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20"/>
            <p:cNvSpPr/>
            <p:nvPr/>
          </p:nvSpPr>
          <p:spPr>
            <a:xfrm>
              <a:off x="4780080" y="2508120"/>
              <a:ext cx="442800" cy="454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21"/>
            <p:cNvSpPr/>
            <p:nvPr/>
          </p:nvSpPr>
          <p:spPr>
            <a:xfrm>
              <a:off x="6846840" y="2205000"/>
              <a:ext cx="442800" cy="453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22"/>
            <p:cNvSpPr/>
            <p:nvPr/>
          </p:nvSpPr>
          <p:spPr>
            <a:xfrm>
              <a:off x="4041720" y="2658960"/>
              <a:ext cx="442800" cy="455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23"/>
            <p:cNvSpPr/>
            <p:nvPr/>
          </p:nvSpPr>
          <p:spPr>
            <a:xfrm>
              <a:off x="3746520" y="3265560"/>
              <a:ext cx="738000" cy="7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24"/>
            <p:cNvSpPr/>
            <p:nvPr/>
          </p:nvSpPr>
          <p:spPr>
            <a:xfrm flipH="1">
              <a:off x="5075280" y="3265560"/>
              <a:ext cx="442800" cy="7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5370480" y="4629240"/>
              <a:ext cx="885960" cy="7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3451320" y="4629240"/>
              <a:ext cx="885600" cy="7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7"/>
            <p:cNvSpPr/>
            <p:nvPr/>
          </p:nvSpPr>
          <p:spPr>
            <a:xfrm flipH="1">
              <a:off x="2270160" y="3265560"/>
              <a:ext cx="14760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8"/>
            <p:cNvSpPr/>
            <p:nvPr/>
          </p:nvSpPr>
          <p:spPr>
            <a:xfrm flipH="1">
              <a:off x="1974960" y="4022640"/>
              <a:ext cx="147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9"/>
            <p:cNvSpPr/>
            <p:nvPr/>
          </p:nvSpPr>
          <p:spPr>
            <a:xfrm flipV="1">
              <a:off x="3746520" y="2811240"/>
              <a:ext cx="29520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30"/>
            <p:cNvSpPr/>
            <p:nvPr/>
          </p:nvSpPr>
          <p:spPr>
            <a:xfrm>
              <a:off x="3894120" y="3114720"/>
              <a:ext cx="44280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31"/>
            <p:cNvSpPr/>
            <p:nvPr/>
          </p:nvSpPr>
          <p:spPr>
            <a:xfrm>
              <a:off x="5222880" y="2811600"/>
              <a:ext cx="29520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32"/>
            <p:cNvSpPr/>
            <p:nvPr/>
          </p:nvSpPr>
          <p:spPr>
            <a:xfrm flipH="1">
              <a:off x="6846840" y="2658960"/>
              <a:ext cx="14760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33"/>
            <p:cNvSpPr/>
            <p:nvPr/>
          </p:nvSpPr>
          <p:spPr>
            <a:xfrm flipH="1" flipV="1">
              <a:off x="7141680" y="3265200"/>
              <a:ext cx="443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34"/>
            <p:cNvSpPr/>
            <p:nvPr/>
          </p:nvSpPr>
          <p:spPr>
            <a:xfrm flipH="1">
              <a:off x="2246400" y="5715000"/>
              <a:ext cx="14760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35"/>
            <p:cNvSpPr/>
            <p:nvPr/>
          </p:nvSpPr>
          <p:spPr>
            <a:xfrm flipV="1">
              <a:off x="5518080" y="5538960"/>
              <a:ext cx="147600" cy="15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36"/>
            <p:cNvSpPr/>
            <p:nvPr/>
          </p:nvSpPr>
          <p:spPr>
            <a:xfrm flipV="1">
              <a:off x="5075280" y="5992560"/>
              <a:ext cx="147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37"/>
            <p:cNvSpPr/>
            <p:nvPr/>
          </p:nvSpPr>
          <p:spPr>
            <a:xfrm>
              <a:off x="6773760" y="582948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38"/>
            <p:cNvSpPr/>
            <p:nvPr/>
          </p:nvSpPr>
          <p:spPr>
            <a:xfrm>
              <a:off x="3451320" y="5784840"/>
              <a:ext cx="14760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Trebuchet MS"/>
              </a:rPr>
              <a:t>Графические организаторы: </a:t>
            </a:r>
            <a:r>
              <a:rPr b="0" lang="ru-RU" sz="32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ru-RU" sz="32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ru-RU" sz="32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ru-RU" sz="32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ru-RU" sz="32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ru-RU" sz="32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ru-RU" sz="3200" spc="-1" strike="noStrike">
                <a:solidFill>
                  <a:srgbClr val="b13f9a"/>
                </a:solidFill>
                <a:latin typeface="Trebuchet MS"/>
              </a:rPr>
              <a:t>«Кластеры»</a:t>
            </a:r>
            <a:endParaRPr b="0" lang="en-US" sz="3200" spc="-1" strike="noStrike">
              <a:solidFill>
                <a:srgbClr val="b13f9a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Номер слайда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43"/>
          <p:cNvGrpSpPr/>
          <p:nvPr/>
        </p:nvGrpSpPr>
        <p:grpSpPr>
          <a:xfrm>
            <a:off x="1763640" y="2463840"/>
            <a:ext cx="6348600" cy="3701520"/>
            <a:chOff x="1763640" y="2463840"/>
            <a:chExt cx="6348600" cy="3701520"/>
          </a:xfrm>
        </p:grpSpPr>
        <p:sp>
          <p:nvSpPr>
            <p:cNvPr id="351" name="Oval 3"/>
            <p:cNvSpPr/>
            <p:nvPr/>
          </p:nvSpPr>
          <p:spPr>
            <a:xfrm>
              <a:off x="3635280" y="3954960"/>
              <a:ext cx="2592360" cy="96012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бразовательный процес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4"/>
            <p:cNvSpPr/>
            <p:nvPr/>
          </p:nvSpPr>
          <p:spPr>
            <a:xfrm>
              <a:off x="2206800" y="3061440"/>
              <a:ext cx="1771560" cy="700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Участ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5"/>
            <p:cNvSpPr/>
            <p:nvPr/>
          </p:nvSpPr>
          <p:spPr>
            <a:xfrm>
              <a:off x="2206800" y="4793400"/>
              <a:ext cx="1771560" cy="6937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ет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6"/>
            <p:cNvSpPr/>
            <p:nvPr/>
          </p:nvSpPr>
          <p:spPr>
            <a:xfrm>
              <a:off x="5749920" y="4853520"/>
              <a:ext cx="1846440" cy="633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едметные обла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7"/>
            <p:cNvSpPr/>
            <p:nvPr/>
          </p:nvSpPr>
          <p:spPr>
            <a:xfrm>
              <a:off x="5454720" y="3061440"/>
              <a:ext cx="1771560" cy="700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одерж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8"/>
            <p:cNvSpPr/>
            <p:nvPr/>
          </p:nvSpPr>
          <p:spPr>
            <a:xfrm>
              <a:off x="2058840" y="3612600"/>
              <a:ext cx="443160" cy="382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9"/>
            <p:cNvSpPr/>
            <p:nvPr/>
          </p:nvSpPr>
          <p:spPr>
            <a:xfrm>
              <a:off x="1763640" y="4123080"/>
              <a:ext cx="443160" cy="382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"/>
            <p:cNvSpPr/>
            <p:nvPr/>
          </p:nvSpPr>
          <p:spPr>
            <a:xfrm>
              <a:off x="3522600" y="5718960"/>
              <a:ext cx="442800" cy="382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1"/>
            <p:cNvSpPr/>
            <p:nvPr/>
          </p:nvSpPr>
          <p:spPr>
            <a:xfrm>
              <a:off x="2206800" y="5654520"/>
              <a:ext cx="442800" cy="383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2"/>
            <p:cNvSpPr/>
            <p:nvPr/>
          </p:nvSpPr>
          <p:spPr>
            <a:xfrm>
              <a:off x="4863960" y="5783040"/>
              <a:ext cx="443160" cy="382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3"/>
            <p:cNvSpPr/>
            <p:nvPr/>
          </p:nvSpPr>
          <p:spPr>
            <a:xfrm>
              <a:off x="5159520" y="5272200"/>
              <a:ext cx="442800" cy="382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4"/>
            <p:cNvSpPr/>
            <p:nvPr/>
          </p:nvSpPr>
          <p:spPr>
            <a:xfrm>
              <a:off x="6635880" y="5783040"/>
              <a:ext cx="442800" cy="382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5"/>
            <p:cNvSpPr/>
            <p:nvPr/>
          </p:nvSpPr>
          <p:spPr>
            <a:xfrm>
              <a:off x="7669080" y="3357000"/>
              <a:ext cx="443160" cy="382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6"/>
            <p:cNvSpPr/>
            <p:nvPr/>
          </p:nvSpPr>
          <p:spPr>
            <a:xfrm>
              <a:off x="4421160" y="3229920"/>
              <a:ext cx="442800" cy="382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7"/>
            <p:cNvSpPr/>
            <p:nvPr/>
          </p:nvSpPr>
          <p:spPr>
            <a:xfrm>
              <a:off x="4863960" y="2719080"/>
              <a:ext cx="443160" cy="382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8"/>
            <p:cNvSpPr/>
            <p:nvPr/>
          </p:nvSpPr>
          <p:spPr>
            <a:xfrm>
              <a:off x="6931080" y="2463840"/>
              <a:ext cx="442800" cy="382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9"/>
            <p:cNvSpPr/>
            <p:nvPr/>
          </p:nvSpPr>
          <p:spPr>
            <a:xfrm>
              <a:off x="4125960" y="2846160"/>
              <a:ext cx="442800" cy="383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0"/>
            <p:cNvSpPr/>
            <p:nvPr/>
          </p:nvSpPr>
          <p:spPr>
            <a:xfrm>
              <a:off x="3830760" y="3357000"/>
              <a:ext cx="738000" cy="63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1"/>
            <p:cNvSpPr/>
            <p:nvPr/>
          </p:nvSpPr>
          <p:spPr>
            <a:xfrm flipH="1">
              <a:off x="5159520" y="3357000"/>
              <a:ext cx="442800" cy="63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2"/>
            <p:cNvSpPr/>
            <p:nvPr/>
          </p:nvSpPr>
          <p:spPr>
            <a:xfrm>
              <a:off x="5454720" y="4506120"/>
              <a:ext cx="885600" cy="63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3"/>
            <p:cNvSpPr/>
            <p:nvPr/>
          </p:nvSpPr>
          <p:spPr>
            <a:xfrm flipH="1">
              <a:off x="3534840" y="4506120"/>
              <a:ext cx="885960" cy="63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4"/>
            <p:cNvSpPr/>
            <p:nvPr/>
          </p:nvSpPr>
          <p:spPr>
            <a:xfrm flipH="1">
              <a:off x="2354400" y="3357000"/>
              <a:ext cx="14760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5"/>
            <p:cNvSpPr/>
            <p:nvPr/>
          </p:nvSpPr>
          <p:spPr>
            <a:xfrm flipH="1">
              <a:off x="2058480" y="3994920"/>
              <a:ext cx="147960" cy="12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6"/>
            <p:cNvSpPr/>
            <p:nvPr/>
          </p:nvSpPr>
          <p:spPr>
            <a:xfrm flipV="1">
              <a:off x="3830760" y="2974320"/>
              <a:ext cx="29520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3978360" y="3229920"/>
              <a:ext cx="44280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8"/>
            <p:cNvSpPr/>
            <p:nvPr/>
          </p:nvSpPr>
          <p:spPr>
            <a:xfrm>
              <a:off x="5307120" y="2974320"/>
              <a:ext cx="29520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29"/>
            <p:cNvSpPr/>
            <p:nvPr/>
          </p:nvSpPr>
          <p:spPr>
            <a:xfrm flipH="1">
              <a:off x="6931080" y="2846160"/>
              <a:ext cx="14760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30"/>
            <p:cNvSpPr/>
            <p:nvPr/>
          </p:nvSpPr>
          <p:spPr>
            <a:xfrm flipH="1" flipV="1">
              <a:off x="7226280" y="3357000"/>
              <a:ext cx="442800" cy="12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31"/>
            <p:cNvSpPr/>
            <p:nvPr/>
          </p:nvSpPr>
          <p:spPr>
            <a:xfrm flipH="1">
              <a:off x="2329920" y="5420880"/>
              <a:ext cx="14796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32"/>
            <p:cNvSpPr/>
            <p:nvPr/>
          </p:nvSpPr>
          <p:spPr>
            <a:xfrm flipV="1">
              <a:off x="5602320" y="5272200"/>
              <a:ext cx="14760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33"/>
            <p:cNvSpPr/>
            <p:nvPr/>
          </p:nvSpPr>
          <p:spPr>
            <a:xfrm flipV="1">
              <a:off x="5159520" y="5654160"/>
              <a:ext cx="147600" cy="1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34"/>
            <p:cNvSpPr/>
            <p:nvPr/>
          </p:nvSpPr>
          <p:spPr>
            <a:xfrm>
              <a:off x="6858000" y="551700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35"/>
            <p:cNvSpPr/>
            <p:nvPr/>
          </p:nvSpPr>
          <p:spPr>
            <a:xfrm>
              <a:off x="3535200" y="5479560"/>
              <a:ext cx="14796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Trebuchet MS"/>
              </a:rPr>
              <a:t>Пример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Trebuchet MS"/>
              </a:rPr>
              <a:t>Корзина (идей, понятий, имен)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ченик записывает в тетради все, что ему известно по проблем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мен информацией в парах или группах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руппы по кругу называют сведения, факт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читель записывает все на доск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вязывание в логические цепи, исправление ошибок по мере усвоения новой информаци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Trebuchet MS"/>
              </a:rPr>
              <a:t>Зигзаг (пила)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екст или материал делится на несколько смысловых фрагмент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се ученики делятся на несколько рабочих групп (не больше 7 человек в группе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Формируются экспертные группы по одному ученику от каждой рабочей групп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аждая экспертная группа работает над своим фрагментом (сначала индивидуально, потом обсуждают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ченики возвращаются в рабочие группы и обучают остальных своей части материал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Группа вырабатывает общие представления о проблеме и докладывает их остальным группа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Trebuchet MS"/>
              </a:rPr>
              <a:t>Таблицы: «Знаю – Узнал - Хочу узнать –  (ЗУХ)» </a:t>
            </a:r>
            <a:endParaRPr b="0" lang="en-US" sz="3200" spc="-1" strike="noStrike">
              <a:solidFill>
                <a:srgbClr val="b13f9a"/>
              </a:solidFill>
              <a:latin typeface="Trebuchet MS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900000" y="2421000"/>
          <a:ext cx="7693200" cy="1517760"/>
        </p:xfrm>
        <a:graphic>
          <a:graphicData uri="http://schemas.openxmlformats.org/drawingml/2006/table">
            <a:tbl>
              <a:tblPr/>
              <a:tblGrid>
                <a:gridCol w="2563920"/>
                <a:gridCol w="2565360"/>
                <a:gridCol w="2563920"/>
              </a:tblGrid>
              <a:tr h="15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мы зна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мы узнали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мы хотим узнат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900000" y="4005360"/>
          <a:ext cx="7704360" cy="2541600"/>
        </p:xfrm>
        <a:graphic>
          <a:graphicData uri="http://schemas.openxmlformats.org/drawingml/2006/table">
            <a:tbl>
              <a:tblPr/>
              <a:tblGrid>
                <a:gridCol w="3888000"/>
                <a:gridCol w="3816360"/>
              </a:tblGrid>
              <a:tr h="19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и информации, которыми мы намерены пользова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лавные слов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чники информации, из которых мы получили/намерены получить информац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ткуда узнал(ю)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ru-RU" sz="4000" spc="-1" strike="noStrike">
                <a:solidFill>
                  <a:srgbClr val="b13f9a"/>
                </a:solidFill>
                <a:latin typeface="Trebuchet MS"/>
              </a:rPr>
              <a:t>«Помоги мне это сделать самому, ничего не делая за меня, </a:t>
            </a:r>
            <a:br>
              <a:rPr sz="4000"/>
            </a:br>
            <a:r>
              <a:rPr b="1" lang="ru-RU" sz="4000" spc="-1" strike="noStrike">
                <a:solidFill>
                  <a:srgbClr val="b13f9a"/>
                </a:solidFill>
                <a:latin typeface="Trebuchet MS"/>
              </a:rPr>
              <a:t>направь в  нужное русло, подтолкни к решению,  </a:t>
            </a:r>
            <a:br>
              <a:rPr sz="4000"/>
            </a:br>
            <a:r>
              <a:rPr b="1" lang="ru-RU" sz="4000" spc="-1" strike="noStrike">
                <a:solidFill>
                  <a:srgbClr val="b13f9a"/>
                </a:solidFill>
                <a:latin typeface="Trebuchet MS"/>
              </a:rPr>
              <a:t>а остальное я сделаю САМ!»</a:t>
            </a:r>
            <a:br>
              <a:rPr sz="4000"/>
            </a:b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5796000" y="5877000"/>
            <a:ext cx="30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Arial"/>
              </a:rPr>
              <a:t>М. Монтессо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Trebuchet MS"/>
              </a:rPr>
              <a:t>Синквей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ишем синквей (от англ. «путь мысли»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авила написания синквейя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de6c3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7c80"/>
                </a:solidFill>
                <a:latin typeface="Georgia"/>
              </a:rPr>
              <a:t>Одно слово.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Существительное или местоимение, обозначающее предмет, о котором идет речь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de6c3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7c80"/>
                </a:solidFill>
                <a:latin typeface="Georgia"/>
              </a:rPr>
              <a:t>Два слова.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Прилагательные или причастия, описывающие признаки и свойства выбранного предмет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de6c3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7c80"/>
                </a:solidFill>
                <a:latin typeface="Georgia"/>
              </a:rPr>
              <a:t>Три слова.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Глаголы, описывающие совершаемые предметом или объектом действ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de6c3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7c80"/>
                </a:solidFill>
                <a:latin typeface="Georgia"/>
              </a:rPr>
              <a:t>Фраза из четырех слов.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Выражает личное отношение автора к предмету или объекту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de6c3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7c80"/>
                </a:solidFill>
                <a:latin typeface="Georgia"/>
              </a:rPr>
              <a:t>Одно слово.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Характеризует суть предмета или объект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98" name="Group 4"/>
          <p:cNvGrpSpPr/>
          <p:nvPr/>
        </p:nvGrpSpPr>
        <p:grpSpPr>
          <a:xfrm>
            <a:off x="108000" y="115920"/>
            <a:ext cx="592200" cy="673200"/>
            <a:chOff x="108000" y="115920"/>
            <a:chExt cx="592200" cy="673200"/>
          </a:xfrm>
        </p:grpSpPr>
        <p:sp>
          <p:nvSpPr>
            <p:cNvPr id="399" name="Puzzle3"/>
            <p:cNvSpPr/>
            <p:nvPr/>
          </p:nvSpPr>
          <p:spPr>
            <a:xfrm>
              <a:off x="396360" y="115920"/>
              <a:ext cx="232560" cy="3578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Puzzle2"/>
            <p:cNvSpPr/>
            <p:nvPr/>
          </p:nvSpPr>
          <p:spPr>
            <a:xfrm>
              <a:off x="328680" y="376560"/>
              <a:ext cx="371520" cy="3258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Puzzle4"/>
            <p:cNvSpPr/>
            <p:nvPr/>
          </p:nvSpPr>
          <p:spPr>
            <a:xfrm>
              <a:off x="184680" y="372600"/>
              <a:ext cx="223920" cy="41652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Puzzle1"/>
            <p:cNvSpPr/>
            <p:nvPr/>
          </p:nvSpPr>
          <p:spPr>
            <a:xfrm>
              <a:off x="108000" y="223920"/>
              <a:ext cx="376200" cy="2484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Trebuchet MS"/>
              </a:rPr>
              <a:t>Синквейны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никул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олгожданные, но недолги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ланируешь, предполагаешь – не успеваеш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у почему хорошее так быстротечно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гновени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Trebuchet MS"/>
              </a:rPr>
              <a:t>Синквейны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чител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уетливый, крикливы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ъясняет, объясняет и жде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гда окончится эта пытка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едолага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Trebuchet MS"/>
              </a:rPr>
              <a:t>Полезные ссылки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930320" y="1409760"/>
          <a:ext cx="5283360" cy="497664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</a:tblGrid>
              <a:tr h="42048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ttp://www.kmspb.narod.ru/posobie/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нформационный Банк современного учителя по РК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616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ttp://www.gimc.ru/content/творческая-группа-технология-развития-критического-мышления-через-чтение-и-письм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держание разде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Что такое критическое мышлени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 Приемы технологии РКМЧ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 Базовая модель технологи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 Мастер-класс "Стресс: добро или зло?"(Суслина О.А., учитель сш№31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 Презентация "Технология развития критического мышления"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 Ссылка на разработанные уроки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рок математики в 5 классе «Прямоугольник» (Дубова Е.В., учитель математики гимназии №35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рок математики в 6 классе «Окружность. Длина окружности» (Соколова Н.Б., учитель математики сш№33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рок алгебры в 7 классе «Статистические характеристики» (Бирюкова Н.В., учитель математики сш№42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рок алгебры и начал анализа в 10 классе « Применение производной для исследования функций на монотонность» (Тыкоцкая Л.И., учитель математики сш№25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рок информатики в 11 классе «Представление о базах данных» (Грехова Е.А., учитель информатики и математики сш №14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Trebuchet MS"/>
              </a:rPr>
              <a:t>Критически мыслящим человеком невозможно манипулировать .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rebuchet MS"/>
              </a:rPr>
              <a:t>Критическое мышление - это</a:t>
            </a:r>
            <a:endParaRPr b="0" lang="en-US" sz="36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209680"/>
            <a:ext cx="830592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de6c36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c66bb"/>
                </a:solidFill>
                <a:latin typeface="Georgia"/>
              </a:rPr>
              <a:t>мышление, которое  отличается взвешенностью, логичностью и целенаправленностью, его характеризует использование таких когнитивных навыков и стратегий, которые увеличивают вероятность получения желательного результа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Халперн Д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Trebuchet MS"/>
              </a:rPr>
              <a:t>Технология развития критического мышления</a:t>
            </a:r>
            <a:endParaRPr b="0" lang="en-US" sz="32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2143080"/>
            <a:ext cx="77724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Georgia"/>
              </a:rPr>
              <a:t>               </a:t>
            </a:r>
            <a:r>
              <a:rPr b="1" lang="ru-RU" sz="2000" spc="-1" strike="noStrike">
                <a:solidFill>
                  <a:srgbClr val="3399ff"/>
                </a:solidFill>
                <a:latin typeface="Georgia"/>
              </a:rPr>
              <a:t>Будущие граждане должны уметь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трудничать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ботать на равных и в то же время главенствовать и руководить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важать людей самого разного происхожден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являть личную инициативу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тстаивать свои принципы и в то же время умело увязывать «вечные» ценности с быстро меняющимися ситуациям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этого учение непременно должно быть активным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533520" y="1295280"/>
            <a:ext cx="807696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457200" y="1295280"/>
            <a:ext cx="8305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гает человеку определить собственные приоритеты в личной и профессиональной жиз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олагает принятие индивидуальной ответственности за сделанный выб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ает уровень индивидуальной культуры работы с информац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ует субъектную позицию ли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ЕХНОЛОГИЯ   РКМЧ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5"/>
          <p:cNvGrpSpPr/>
          <p:nvPr/>
        </p:nvGrpSpPr>
        <p:grpSpPr>
          <a:xfrm>
            <a:off x="837720" y="699480"/>
            <a:ext cx="7039440" cy="5652000"/>
            <a:chOff x="837720" y="699480"/>
            <a:chExt cx="7039440" cy="5652000"/>
          </a:xfrm>
        </p:grpSpPr>
        <p:sp>
          <p:nvSpPr>
            <p:cNvPr id="278" name="AutoShape 14"/>
            <p:cNvSpPr/>
            <p:nvPr/>
          </p:nvSpPr>
          <p:spPr>
            <a:xfrm rot="901200">
              <a:off x="2943720" y="2356560"/>
              <a:ext cx="3087720" cy="1871640"/>
            </a:xfrm>
            <a:prstGeom prst="octagon">
              <a:avLst>
                <a:gd name="adj" fmla="val 29287"/>
              </a:avLst>
            </a:prstGeom>
            <a:solidFill>
              <a:srgbClr val="b83d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13f9a"/>
                  </a:solidFill>
                  <a:latin typeface="Tahoma"/>
                </a:rPr>
                <a:t>технология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13f9a"/>
                  </a:solidFill>
                  <a:latin typeface="Tahoma"/>
                </a:rPr>
                <a:t>РКМЧ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13f9a"/>
                  </a:solidFill>
                  <a:latin typeface="Tahoma"/>
                </a:rPr>
                <a:t>позволяе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7"/>
            <p:cNvSpPr/>
            <p:nvPr/>
          </p:nvSpPr>
          <p:spPr>
            <a:xfrm rot="5080200">
              <a:off x="2394360" y="718200"/>
              <a:ext cx="1152360" cy="1821240"/>
            </a:xfrm>
            <a:custGeom>
              <a:avLst/>
              <a:gdLst>
                <a:gd name="textAreaLeft" fmla="*/ 154080 w 1152360"/>
                <a:gd name="textAreaRight" fmla="*/ 998280 w 1152360"/>
                <a:gd name="textAreaTop" fmla="*/ 321840 h 1821240"/>
                <a:gd name="textAreaBottom" fmla="*/ 1243800 h 182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634" stAng="-5400000" swAng="-5400000"/>
                  <a:lnTo>
                    <a:pt x="0" y="10936"/>
                  </a:lnTo>
                  <a:arcTo wR="21600" hR="7634" stAng="10800000" swAng="-1648341"/>
                  <a:lnTo>
                    <a:pt x="9458" y="20280"/>
                  </a:lnTo>
                  <a:lnTo>
                    <a:pt x="21600" y="16918"/>
                  </a:lnTo>
                  <a:lnTo>
                    <a:pt x="9458" y="10916"/>
                  </a:lnTo>
                  <a:lnTo>
                    <a:pt x="9458" y="13947"/>
                  </a:lnTo>
                  <a:arcTo wR="21600" hR="7634" stAng="9151659" swAng="1379754"/>
                  <a:lnTo>
                    <a:pt x="511" y="9284"/>
                  </a:lnTo>
                  <a:arcTo wR="21600" hR="7634" stAng="-10531413" swAng="5131413"/>
                  <a:close/>
                </a:path>
                <a:path fill="darkenLess" w="21600" h="21600">
                  <a:moveTo>
                    <a:pt x="21600" y="0"/>
                  </a:moveTo>
                  <a:arcTo wR="21600" hR="7634" stAng="-5400000" swAng="-5400000"/>
                  <a:lnTo>
                    <a:pt x="0" y="7634"/>
                  </a:lnTo>
                  <a:arcTo wR="21600" hR="7634" stAng="10800000" swAng="-268587"/>
                  <a:lnTo>
                    <a:pt x="511" y="9284"/>
                  </a:lnTo>
                  <a:arcTo wR="21600" hR="7634" stAng="-10531413" swAng="5131413"/>
                  <a:close/>
                </a:path>
              </a:pathLst>
            </a:custGeom>
            <a:solidFill>
              <a:srgbClr val="b83d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8"/>
            <p:cNvSpPr/>
            <p:nvPr/>
          </p:nvSpPr>
          <p:spPr>
            <a:xfrm rot="19944600">
              <a:off x="3018600" y="3947760"/>
              <a:ext cx="805320" cy="2087640"/>
            </a:xfrm>
            <a:custGeom>
              <a:avLst/>
              <a:gdLst>
                <a:gd name="textAreaLeft" fmla="*/ 107640 w 805320"/>
                <a:gd name="textAreaRight" fmla="*/ 697680 w 805320"/>
                <a:gd name="textAreaTop" fmla="*/ 368640 h 2087640"/>
                <a:gd name="textAreaBottom" fmla="*/ 1425960 h 20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634" stAng="-5400000" swAng="-5400000"/>
                  <a:lnTo>
                    <a:pt x="0" y="10936"/>
                  </a:lnTo>
                  <a:arcTo wR="21600" hR="7634" stAng="10800000" swAng="-1648341"/>
                  <a:lnTo>
                    <a:pt x="9458" y="20280"/>
                  </a:lnTo>
                  <a:lnTo>
                    <a:pt x="21600" y="16918"/>
                  </a:lnTo>
                  <a:lnTo>
                    <a:pt x="9458" y="10916"/>
                  </a:lnTo>
                  <a:lnTo>
                    <a:pt x="9458" y="13947"/>
                  </a:lnTo>
                  <a:arcTo wR="21600" hR="7634" stAng="9151659" swAng="1379754"/>
                  <a:lnTo>
                    <a:pt x="511" y="9284"/>
                  </a:lnTo>
                  <a:arcTo wR="21600" hR="7634" stAng="-10531413" swAng="5131413"/>
                  <a:close/>
                </a:path>
                <a:path fill="darkenLess" w="21600" h="21600">
                  <a:moveTo>
                    <a:pt x="21600" y="0"/>
                  </a:moveTo>
                  <a:arcTo wR="21600" hR="7634" stAng="-5400000" swAng="-5400000"/>
                  <a:lnTo>
                    <a:pt x="0" y="7634"/>
                  </a:lnTo>
                  <a:arcTo wR="21600" hR="7634" stAng="10800000" swAng="-268587"/>
                  <a:lnTo>
                    <a:pt x="511" y="9284"/>
                  </a:lnTo>
                  <a:arcTo wR="21600" hR="7634" stAng="-10531413" swAng="5131413"/>
                  <a:close/>
                </a:path>
              </a:pathLst>
            </a:custGeom>
            <a:solidFill>
              <a:srgbClr val="b83d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21"/>
            <p:cNvSpPr/>
            <p:nvPr/>
          </p:nvSpPr>
          <p:spPr>
            <a:xfrm rot="2271000">
              <a:off x="1423440" y="2571120"/>
              <a:ext cx="940320" cy="2232000"/>
            </a:xfrm>
            <a:custGeom>
              <a:avLst/>
              <a:gdLst>
                <a:gd name="textAreaLeft" fmla="*/ 126000 w 940320"/>
                <a:gd name="textAreaRight" fmla="*/ 814320 w 940320"/>
                <a:gd name="textAreaTop" fmla="*/ 394200 h 2232000"/>
                <a:gd name="textAreaBottom" fmla="*/ 152460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634" stAng="-5400000" swAng="-5400000"/>
                  <a:lnTo>
                    <a:pt x="0" y="10936"/>
                  </a:lnTo>
                  <a:arcTo wR="21600" hR="7634" stAng="10800000" swAng="-1648341"/>
                  <a:lnTo>
                    <a:pt x="9458" y="20280"/>
                  </a:lnTo>
                  <a:lnTo>
                    <a:pt x="21600" y="16918"/>
                  </a:lnTo>
                  <a:lnTo>
                    <a:pt x="9458" y="10916"/>
                  </a:lnTo>
                  <a:lnTo>
                    <a:pt x="9458" y="13947"/>
                  </a:lnTo>
                  <a:arcTo wR="21600" hR="7634" stAng="9151659" swAng="1379754"/>
                  <a:lnTo>
                    <a:pt x="511" y="9284"/>
                  </a:lnTo>
                  <a:arcTo wR="21600" hR="7634" stAng="-10531413" swAng="5131413"/>
                  <a:close/>
                </a:path>
                <a:path fill="darkenLess" w="21600" h="21600">
                  <a:moveTo>
                    <a:pt x="21600" y="0"/>
                  </a:moveTo>
                  <a:arcTo wR="21600" hR="7634" stAng="-5400000" swAng="-5400000"/>
                  <a:lnTo>
                    <a:pt x="0" y="7634"/>
                  </a:lnTo>
                  <a:arcTo wR="21600" hR="7634" stAng="10800000" swAng="-268587"/>
                  <a:lnTo>
                    <a:pt x="511" y="9284"/>
                  </a:lnTo>
                  <a:arcTo wR="21600" hR="7634" stAng="-10531413" swAng="5131413"/>
                  <a:close/>
                </a:path>
              </a:pathLst>
            </a:custGeom>
            <a:solidFill>
              <a:srgbClr val="b83d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22"/>
            <p:cNvSpPr/>
            <p:nvPr/>
          </p:nvSpPr>
          <p:spPr>
            <a:xfrm rot="13422600">
              <a:off x="6335280" y="2693160"/>
              <a:ext cx="919440" cy="2170080"/>
            </a:xfrm>
            <a:custGeom>
              <a:avLst/>
              <a:gdLst>
                <a:gd name="textAreaLeft" fmla="*/ 123120 w 919440"/>
                <a:gd name="textAreaRight" fmla="*/ 796320 w 919440"/>
                <a:gd name="textAreaTop" fmla="*/ 383400 h 2170080"/>
                <a:gd name="textAreaBottom" fmla="*/ 1482120 h 217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634" stAng="-5400000" swAng="-5400000"/>
                  <a:lnTo>
                    <a:pt x="0" y="10936"/>
                  </a:lnTo>
                  <a:arcTo wR="21600" hR="7634" stAng="10800000" swAng="-1648341"/>
                  <a:lnTo>
                    <a:pt x="9458" y="20280"/>
                  </a:lnTo>
                  <a:lnTo>
                    <a:pt x="21600" y="16918"/>
                  </a:lnTo>
                  <a:lnTo>
                    <a:pt x="9458" y="10916"/>
                  </a:lnTo>
                  <a:lnTo>
                    <a:pt x="9458" y="13947"/>
                  </a:lnTo>
                  <a:arcTo wR="21600" hR="7634" stAng="9151659" swAng="1379754"/>
                  <a:lnTo>
                    <a:pt x="511" y="9284"/>
                  </a:lnTo>
                  <a:arcTo wR="21600" hR="7634" stAng="-10531413" swAng="5131413"/>
                  <a:close/>
                </a:path>
                <a:path fill="darkenLess" w="21600" h="21600">
                  <a:moveTo>
                    <a:pt x="21600" y="0"/>
                  </a:moveTo>
                  <a:arcTo wR="21600" hR="7634" stAng="-5400000" swAng="-5400000"/>
                  <a:lnTo>
                    <a:pt x="0" y="7634"/>
                  </a:lnTo>
                  <a:arcTo wR="21600" hR="7634" stAng="10800000" swAng="-268587"/>
                  <a:lnTo>
                    <a:pt x="511" y="9284"/>
                  </a:lnTo>
                  <a:arcTo wR="21600" hR="7634" stAng="-10531413" swAng="5131413"/>
                  <a:close/>
                </a:path>
              </a:pathLst>
            </a:custGeom>
            <a:solidFill>
              <a:srgbClr val="b83d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23"/>
            <p:cNvSpPr/>
            <p:nvPr/>
          </p:nvSpPr>
          <p:spPr>
            <a:xfrm rot="8488200">
              <a:off x="5098320" y="900360"/>
              <a:ext cx="1225800" cy="1658520"/>
            </a:xfrm>
            <a:custGeom>
              <a:avLst/>
              <a:gdLst>
                <a:gd name="textAreaLeft" fmla="*/ 164160 w 1225800"/>
                <a:gd name="textAreaRight" fmla="*/ 1061640 w 1225800"/>
                <a:gd name="textAreaTop" fmla="*/ 293040 h 1658520"/>
                <a:gd name="textAreaBottom" fmla="*/ 1132920 h 165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634" stAng="-5400000" swAng="-5400000"/>
                  <a:lnTo>
                    <a:pt x="0" y="10936"/>
                  </a:lnTo>
                  <a:arcTo wR="21600" hR="7634" stAng="10800000" swAng="-1648341"/>
                  <a:lnTo>
                    <a:pt x="9458" y="20280"/>
                  </a:lnTo>
                  <a:lnTo>
                    <a:pt x="21600" y="16918"/>
                  </a:lnTo>
                  <a:lnTo>
                    <a:pt x="9458" y="10916"/>
                  </a:lnTo>
                  <a:lnTo>
                    <a:pt x="9458" y="13947"/>
                  </a:lnTo>
                  <a:arcTo wR="21600" hR="7634" stAng="9151659" swAng="1379754"/>
                  <a:lnTo>
                    <a:pt x="511" y="9284"/>
                  </a:lnTo>
                  <a:arcTo wR="21600" hR="7634" stAng="-10531413" swAng="5131413"/>
                  <a:close/>
                </a:path>
                <a:path fill="darkenLess" w="21600" h="21600">
                  <a:moveTo>
                    <a:pt x="21600" y="0"/>
                  </a:moveTo>
                  <a:arcTo wR="21600" hR="7634" stAng="-5400000" swAng="-5400000"/>
                  <a:lnTo>
                    <a:pt x="0" y="7634"/>
                  </a:lnTo>
                  <a:arcTo wR="21600" hR="7634" stAng="10800000" swAng="-268587"/>
                  <a:lnTo>
                    <a:pt x="511" y="9284"/>
                  </a:lnTo>
                  <a:arcTo wR="21600" hR="7634" stAng="-10531413" swAng="5131413"/>
                  <a:close/>
                </a:path>
              </a:pathLst>
            </a:custGeom>
            <a:solidFill>
              <a:srgbClr val="b83d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24"/>
            <p:cNvSpPr/>
            <p:nvPr/>
          </p:nvSpPr>
          <p:spPr>
            <a:xfrm rot="18018600">
              <a:off x="5117040" y="4308480"/>
              <a:ext cx="987480" cy="2148840"/>
            </a:xfrm>
            <a:custGeom>
              <a:avLst/>
              <a:gdLst>
                <a:gd name="textAreaLeft" fmla="*/ 132120 w 987480"/>
                <a:gd name="textAreaRight" fmla="*/ 855360 w 987480"/>
                <a:gd name="textAreaTop" fmla="*/ 379440 h 2148840"/>
                <a:gd name="textAreaBottom" fmla="*/ 1467720 h 214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634" stAng="-5400000" swAng="-5400000"/>
                  <a:lnTo>
                    <a:pt x="0" y="10936"/>
                  </a:lnTo>
                  <a:arcTo wR="21600" hR="7634" stAng="10800000" swAng="-1648341"/>
                  <a:lnTo>
                    <a:pt x="9458" y="20280"/>
                  </a:lnTo>
                  <a:lnTo>
                    <a:pt x="21600" y="16918"/>
                  </a:lnTo>
                  <a:lnTo>
                    <a:pt x="9458" y="10916"/>
                  </a:lnTo>
                  <a:lnTo>
                    <a:pt x="9458" y="13947"/>
                  </a:lnTo>
                  <a:arcTo wR="21600" hR="7634" stAng="9151659" swAng="1379754"/>
                  <a:lnTo>
                    <a:pt x="511" y="9284"/>
                  </a:lnTo>
                  <a:arcTo wR="21600" hR="7634" stAng="-10531413" swAng="5131413"/>
                  <a:close/>
                </a:path>
                <a:path fill="darkenLess" w="21600" h="21600">
                  <a:moveTo>
                    <a:pt x="21600" y="0"/>
                  </a:moveTo>
                  <a:arcTo wR="21600" hR="7634" stAng="-5400000" swAng="-5400000"/>
                  <a:lnTo>
                    <a:pt x="0" y="7634"/>
                  </a:lnTo>
                  <a:arcTo wR="21600" hR="7634" stAng="10800000" swAng="-268587"/>
                  <a:lnTo>
                    <a:pt x="511" y="9284"/>
                  </a:lnTo>
                  <a:arcTo wR="21600" hR="7634" stAng="-10531413" swAng="5131413"/>
                  <a:close/>
                </a:path>
              </a:pathLst>
            </a:custGeom>
            <a:solidFill>
              <a:srgbClr val="b83d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Rectangle 26"/>
          <p:cNvSpPr/>
          <p:nvPr/>
        </p:nvSpPr>
        <p:spPr>
          <a:xfrm>
            <a:off x="0" y="4437000"/>
            <a:ext cx="23065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13f9a"/>
                </a:solidFill>
                <a:latin typeface="Arial"/>
              </a:rPr>
              <a:t>выражать свои мысли</a:t>
            </a:r>
            <a:r>
              <a:rPr b="0" lang="ru-RU" sz="2000" spc="-1" strike="noStrike">
                <a:solidFill>
                  <a:srgbClr val="b13f9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7"/>
          <p:cNvSpPr/>
          <p:nvPr/>
        </p:nvSpPr>
        <p:spPr>
          <a:xfrm>
            <a:off x="6767640" y="1773360"/>
            <a:ext cx="2376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b13f9a"/>
                </a:solidFill>
                <a:latin typeface="Arial"/>
              </a:rPr>
              <a:t>сотрудничать и работать в группе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8"/>
          <p:cNvSpPr/>
          <p:nvPr/>
        </p:nvSpPr>
        <p:spPr>
          <a:xfrm>
            <a:off x="1403280" y="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9"/>
          <p:cNvSpPr/>
          <p:nvPr/>
        </p:nvSpPr>
        <p:spPr>
          <a:xfrm>
            <a:off x="179280" y="177336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13f9a"/>
                </a:solidFill>
                <a:latin typeface="Arial"/>
              </a:rPr>
              <a:t>Развивать логическое и критическое мыш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0"/>
          <p:cNvSpPr/>
          <p:nvPr/>
        </p:nvSpPr>
        <p:spPr>
          <a:xfrm>
            <a:off x="3708360" y="404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13f9a"/>
                </a:solidFill>
                <a:latin typeface="Arial"/>
              </a:rPr>
              <a:t>Работать с информаци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1"/>
          <p:cNvSpPr/>
          <p:nvPr/>
        </p:nvSpPr>
        <p:spPr>
          <a:xfrm>
            <a:off x="6463800" y="4940640"/>
            <a:ext cx="278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ыстраи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онструкти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заимоотношения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2"/>
          <p:cNvSpPr/>
          <p:nvPr/>
        </p:nvSpPr>
        <p:spPr>
          <a:xfrm>
            <a:off x="972360" y="5845680"/>
            <a:ext cx="363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ализовать субъект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зицию уче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rebuchet MS"/>
              </a:rPr>
              <a:t>Качества, необходимые учащемуся, для овладения критическим мышлением:</a:t>
            </a:r>
            <a:endParaRPr b="0" lang="en-US" sz="24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0880" y="1828800"/>
            <a:ext cx="82296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отовность к планированию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ибкость (готовность воспринимать идеи других)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стойчивость (не откладывать трудные задачи)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сознание (отслеживание хода своих рассуждений и рассуждений других людей)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иск компромиссных решений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ммуникативност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Нижний колонтитул 4"/>
          <p:cNvSpPr/>
          <p:nvPr/>
        </p:nvSpPr>
        <p:spPr>
          <a:xfrm>
            <a:off x="3124080" y="6421320"/>
            <a:ext cx="3962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ac66bb"/>
                </a:solidFill>
                <a:latin typeface="Arial"/>
              </a:rPr>
              <a:t>Суслина С.А. учитель химии МОУ СОШ № 31 г.Владимир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80880" y="5410080"/>
            <a:ext cx="8229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c66bb"/>
                </a:solidFill>
                <a:latin typeface="Arial"/>
              </a:rPr>
              <a:t>Критическое мышление - это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точка отсчета</a:t>
            </a:r>
            <a:r>
              <a:rPr b="1" i="1" lang="ru-RU" sz="2400" spc="-1" strike="noStrike">
                <a:solidFill>
                  <a:srgbClr val="ac66bb"/>
                </a:solidFill>
                <a:latin typeface="Arial"/>
              </a:rPr>
              <a:t>, естественный способ взаимодействия с идеями и информа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fdfdd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rebuchet MS"/>
              </a:rPr>
              <a:t>Структура технологии урока</a:t>
            </a:r>
            <a:endParaRPr b="0" lang="en-US" sz="3200" spc="-1" strike="noStrike">
              <a:solidFill>
                <a:srgbClr val="b13f9a"/>
              </a:solidFill>
              <a:latin typeface="Trebuchet MS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57200" y="1447920"/>
          <a:ext cx="8305920" cy="481644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«Вызов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«Осмысление содержания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«Рефлексия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c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активизация имеющихся знани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c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c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робуждение интереса к получению новой информаци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c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c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остановка учеником собственных целей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c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олучение новой информации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c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c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орректировка учеником поставленных целей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c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размышление, рождение нового зна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c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- постановка учеником новых целей обучения (на перспективу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d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Trebuchet MS"/>
              </a:rPr>
              <a:t>Вызов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81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ЧИТЕЛЬ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воцирует ученик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Задает вопрос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здает ситуацию актуализации опыта ученик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Формирует мотивацию ученика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45080" y="2285640"/>
            <a:ext cx="3813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ЧЕНИК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твечает на провокацию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споминает все, что знает по данной тем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Формулирует первые гипотез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пределяется в своих мотивах и целях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qq</cp:lastModifiedBy>
  <dcterms:modified xsi:type="dcterms:W3CDTF">2011-01-22T12:45:06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