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AFA-B903-4022-87F5-E9A3AE3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C58-147E-4C74-A838-66D641A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B57-EF6D-43E2-A20F-554C70ED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515-59F8-4BFD-8020-CDB8641A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9F7-FC0D-4B4F-BA84-5145DE2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8C51-30D1-4CC2-A44A-D702FAFD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977-937E-4E9D-81BD-00E12964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3915-88AD-435B-9C75-87D9DF9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49B4-6022-4197-9A42-E287F1B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45E9-BB7E-4D79-81CD-842B2F2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0068-B67D-40A8-A9B3-1F339544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4FA-770E-45BD-8B44-BFB56531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5105-AC49-4558-A292-AFD0E15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3B6D-664C-467A-9444-FF4645B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A48-FBF5-4D4D-98CA-AEAA233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299-AFF9-49C9-A519-7CF20B2A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3299-2794-4D22-9CB7-73D5EFE2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48E-8D27-489E-B988-2B9BA6BD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93C-7C5F-4DAD-AC6F-8130EDD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7A0-A6C1-442F-A9F9-7A42AEA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DD1-12A5-41B9-9EA7-7CA1D01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244-131E-446E-A898-E99F74B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4CA-35AC-4FBD-9268-6A30567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01F-D3B2-45F5-A960-5884837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0379-44F1-4818-B2CB-E493C828AE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96A8-0D7D-406C-A21C-1A95232BC2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Формирование навыка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самостоятельного приобретения 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знаний на уроке физики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522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У Николо-Кормская СО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3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voprosblum"/>
          <p:cNvPicPr/>
          <p:nvPr/>
        </p:nvPicPr>
        <p:blipFill>
          <a:blip r:embed="rId1"/>
          <a:stretch/>
        </p:blipFill>
        <p:spPr>
          <a:xfrm>
            <a:off x="684360" y="260280"/>
            <a:ext cx="7129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амостоятельная работа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редство обуч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ответствует дидактической цели и задач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ует уровень знаний, навыков,ум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рабатывает психологическую установку на самостоятельное систематическое пополнение зна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ровни самостоятельно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пирующее действие по заданному образц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продуктивная деятельность по воспроизведению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дуктивная деятельность самостоятельного приобретения знани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ятельность по переносу знаний в новых ситуаци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ебования к организации самостоятельной деятельности ученика на уро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юбая работа имеет конкретную це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еник знает порядок и приёмы выполнения работ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та соответствует учебным возможностям ребён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яется принцип постепенного перехода с одного уровня сложности на друго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еспечивается сочетание видов самостоятельных рабо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ипы самостоятельных рабо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спроизведение самостоятельной работы по образц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конструктивно-вариативны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вристическ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вор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педагог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здать условия для самостоятельной работ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оружить ученика методами и приёмами творческой работ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еспечить основные условия для творческ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словия творческой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мен и борьба мн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бода крит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ятие психологической инер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 педагог творческая лично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творчество педагога и воспитанни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пособы стимулирования творческой актив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здание атмосферы доброжела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ощрение высказывания оригинальных и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ование личного примера творческого подхода к решению пробл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оставление детям возможности активно задавать вопро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8:18:02Z</dcterms:created>
  <dc:creator>Учитель</dc:creator>
  <dc:description/>
  <dc:language>en-US</dc:language>
  <cp:lastModifiedBy>Учитель</cp:lastModifiedBy>
  <dcterms:modified xsi:type="dcterms:W3CDTF">2013-02-18T09:42:10Z</dcterms:modified>
  <cp:revision>4</cp:revision>
  <dc:subject/>
  <dc:title>прррр</dc:title>
</cp:coreProperties>
</file>