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109E-A89E-4E87-83A2-C650FF78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F5D4-F31C-4465-931A-52B2877C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6B72-2B47-45BF-9782-EA3EB8DF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7994-D1BB-4D23-B254-58A631EC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261D-F0D9-40A0-83F1-A81432B6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4789-37F9-4B29-AE3B-DF2DE923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72C2-DA9F-42B4-9F04-2DE88D41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298E-1223-463B-BCD2-92FBFD29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D09C-3C2A-40AE-9461-D46B328F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7D05-E94D-4C5E-BC07-B324BA22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3024-FDA2-49EA-A9F8-8CEEE143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2A03-5126-4D63-BF13-D3F66A68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2255-6A19-4A6C-B513-3ECA7CA3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B9BB-0735-45BB-A651-0725E3A2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DF89-9F2D-4318-A83D-EBBC2BA2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B9A8-3611-48C5-B53F-7E9460F7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208A-612C-4CE7-A918-F15AF09E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779F-3734-4476-9273-82F7EF0E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897-A6DC-4B06-B4D0-157307CE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34CD-DE5A-4C24-8D8C-4193B022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C1C1-87E1-44C0-B284-C983D91B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186-7227-4159-AE1E-685E32F2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07E-8B8C-485E-9586-E8A151F8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DE19-6BD1-479D-94C1-79DAA1EB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5F39-DF62-4600-8F3F-3DC01767E6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A182-B5F5-44CE-971D-F63520DAD4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ТЕХНОЛОГИЯ ПРОДУКТИВНОГО ЧТЕНИЯ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flipH="1">
            <a:off x="4716000" y="2781360"/>
            <a:ext cx="3243240" cy="2440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flipH="1">
            <a:off x="1115640" y="3716280"/>
            <a:ext cx="29415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400" y="549360"/>
            <a:ext cx="77724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тение – это окошко, через которое дети вид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 познают мир и самих себ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но открывается перед ребёнком лишь тог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гда, наряду с чтени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дновременно с ним и даже раньш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ем впервые раскрыта книг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чинается кропотливая работа над сло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.А. Сухомлинск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ЭТАПЫ РАБОТЫ С ТЕКСТО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 с текстом до чт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 с текстом во время чт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 с текстом после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11972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навательные УУ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ем умение извлекать информацию из схем, иллюстраций, текс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ем умение представлять информацию в виде сх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ем умение выявлять сущность, особенности объе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ормируем умение на основе анализа объектов делать выв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ормируем умение обобщать и классифицировать по признак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ормируем умение ориентироваться на развороте учеб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ормируем умение находить ответы на вопросы в иллюст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оммуникативные УУ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уем умение слушать и понимать друг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уем умение строить речевое высказывание в соответствии с поставленными задач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формируем умение оформлять свои мысли в устной фор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уем умение работать в па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400" y="404640"/>
            <a:ext cx="77724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гулятивные УУ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формируем умение высказывать своё предположение на основе работы с материалом учеб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формируем умение оценивать учебные действия в соответствии с поставленной задач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формируем умение прогнозировать предстоящую работу (составлять план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уем умение осуществлять познавательную и личностную рефлекс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чностные УУ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формируем умение выказывать своё отношение к героям, выражать свои эмо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формируем мотивации к обучению и целенаправленной познаватель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уем умение оценивать поступки в соответствии с определённой ситу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09:10:44Z</dcterms:created>
  <dc:creator>Учитель</dc:creator>
  <dc:description/>
  <dc:language>en-US</dc:language>
  <cp:lastModifiedBy>Учитель</cp:lastModifiedBy>
  <dcterms:modified xsi:type="dcterms:W3CDTF">2013-02-19T10:36:12Z</dcterms:modified>
  <cp:revision>3</cp:revision>
  <dc:subject/>
  <dc:title>ТЕХНОЛОГИЯ ПРОДУКТИВНОГО ЧТЕНИЯ</dc:title>
</cp:coreProperties>
</file>