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F53-5171-4ED1-A07E-4095440A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58A-A616-458C-A94A-DCA6ECDF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2E6-3138-4815-A85D-6EE0C090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9CA-FC15-41F6-A50B-D4885BF5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198C-6349-490C-B7D1-B08D5263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551A-F9DF-4B91-9EEE-9F4CDC27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A8A8-6C51-4BA5-A0EF-73C450E9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0156-1605-418B-98AE-10DE70AF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4E5B-4773-4E6D-AA7C-162EC63D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68D9-5EB2-4C28-AC8A-E99B2331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7B00-C0CD-4DB9-BF2E-F176C712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D28-BF97-4716-B194-C6F275DC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968F-214A-4FFB-88AE-E1E7AC99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AE6F-A195-4FB1-8CF0-E73C0C2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05CE-E4E7-4997-970B-DD50ABC4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BEFF-E45D-4B53-8017-961C2B05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1C22-CF43-43F9-8699-17001120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FA0-685A-4C88-8E5F-6D60C67C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23E-54E5-4419-B3D2-609E59BA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9A8-91AC-460F-9209-CC89B8DC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7D2-D400-440C-BFEB-C251F281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371-4D9B-4278-9D24-CE4BF2B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9B8-F6A9-4EA6-A810-6122D9B5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2F5-7510-4270-B4D6-EE6CE094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185C-2516-4447-B81A-1E7573D6CD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A247-7F10-44F8-B3B0-A730EA919E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Движение тела, брошенного под углом к горизонту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алы для подготовки к ЕГЭ по физ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удина Н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имеры движения тел под углом 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 горизонту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667240" cy="204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2962440" cy="1969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943600" y="4343400"/>
            <a:ext cx="1828800" cy="2075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648320" y="1981080"/>
            <a:ext cx="403848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848720" y="2514600"/>
            <a:ext cx="806400" cy="838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Законы движения в поле тяготе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ло движется под действием силы тяже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корение свободного паден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 = 9,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ижение раскладываем на две составляющие: горизонтальную и вертикаль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горизонтали тело движется равномерно, а по вертикали – равноускорен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ектория движения - параб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6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Разложение вектора скорости по составляющим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229200" cy="2162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38120" y="1828440"/>
            <a:ext cx="49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екция скорости на ось ОХ не изменяется с течением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екция скорости на ось ОУ изменяется по закон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ектор скорости в любой момент времени направлен по касательной к траектории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0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0" y="339372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19320" y="4191120"/>
            <a:ext cx="1866960" cy="40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19320" y="5105520"/>
            <a:ext cx="1895400" cy="447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638680" y="4191120"/>
            <a:ext cx="1962360" cy="447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Высота подъем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4647960"/>
            <a:ext cx="86108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сота подъема зависит от угла наклона начальной скорости к горизонт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ремя подъема на максимальную высоту равно половине времени всего пол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тобы найти время полета, нужно высоту подъема  приравнять ну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027240" cy="2706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30840" y="3047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0" y="291636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57600" y="2819520"/>
            <a:ext cx="2800440" cy="742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38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934320" y="2819520"/>
            <a:ext cx="1714320" cy="733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581280" y="3886200"/>
            <a:ext cx="4867560" cy="781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381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800600" y="1981080"/>
            <a:ext cx="2895480" cy="730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369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Дальность поле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4056120"/>
            <a:ext cx="8229600" cy="25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альности полета участвует горизонтальная составляющая скор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горизонтали движение равномер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бы найти дальность полета, нужно в уравнение горизонтального перемещения подставить время пол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934320" cy="1038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02T19:48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