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wmf" ContentType="image/x-wmf"/>
  <Override PartName="/ppt/media/image25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D3E-76F8-4DDA-AB55-129722D9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036-0D68-49D0-B1B4-6F56FC61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D1E-43B4-4514-90B7-E47BCDD0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4D9-473A-4363-83E8-E6DAD501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4173-7EAE-4B6C-BDF5-DDD827BB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BFA5-C800-4CBE-B8E2-40EC7B32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5DF6-07AD-4ECB-8B4F-0954D64F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E396-A58F-4EFC-9CD0-A96EEE3B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DE49-96F3-4194-9F16-1929BC1E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EC5C-234C-4458-9BEA-CFE03515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4CA2-B536-48CF-923A-BE9E5E9B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C08-CD0A-412A-9CE4-E214EBE5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5F29-2F42-4E43-B6C9-71144DA4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FA22-8D29-403B-90EC-30769F2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78C8-1A73-440A-A190-C52FADD6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162C-1556-4DD7-A0B5-917B7D12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29B5-674D-4D37-833C-08646752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D7A-300E-4A83-B236-1E281D28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98A-FE07-447C-A96C-2B2F8B7B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7AE-15AC-4956-B725-093A97F2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7EF-1CAD-4C71-8E3B-558C9D6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E56-FF8D-436A-B01B-B0120951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27D-9A8E-4109-91DA-6AD9E86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4E0-4A27-40F0-9D79-EA494205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2C2A-7A5A-41D1-ACBB-C4D63B1B2DB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EF96-CEAE-40CF-A524-95319B3196F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ianochkas.narod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Движение тела под действием силы тяжести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ьная скорость направлена под углом к горизо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63720" y="5773680"/>
            <a:ext cx="42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аносян Лиана Аслановна,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лное время поле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определения времени полета подстави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уравнение движения по оси 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чение координат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4440" y="4210200"/>
          <a:ext cx="6373800" cy="16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4210200"/>
                    <a:ext cx="6373800" cy="16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астный случа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тело брошено с земли, тогда полное время полета можно найти по форм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406600" y="3728880"/>
          <a:ext cx="3368880" cy="17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3728880"/>
                    <a:ext cx="33688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альность поле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бы определить дальность полета подставим в уравнение движения по оси 0Х полное время пол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23960" y="3970440"/>
          <a:ext cx="76359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3970440"/>
                    <a:ext cx="76359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аксимальная высота подъ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2760" y="13237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пределения максимальной высоты подъема используем формулу для нахождения перемещения по начальной и конечной скорости и ускорению, учитывая, что конечная скорость по оси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вна ну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8229600" cy="218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2406600" y="4451400"/>
          <a:ext cx="4029120" cy="172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6600" y="4451400"/>
                    <a:ext cx="40291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аксимальная дальность полета при фиксированной начальной скор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пасибо за внимание, урок закончен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езентации использовались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 из БЭНП «Кирилла и Мефод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0440" y="4691160"/>
            <a:ext cx="1743120" cy="662040"/>
          </a:xfrm>
          <a:custGeom>
            <a:avLst/>
            <a:gdLst>
              <a:gd name="textAreaLeft" fmla="*/ 42840 w 1743120"/>
              <a:gd name="textAreaRight" fmla="*/ 1700280 w 1743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56853" h="21600">
                <a:moveTo>
                  <a:pt x="0" y="0"/>
                </a:moveTo>
                <a:lnTo>
                  <a:pt x="56853" y="0"/>
                </a:lnTo>
                <a:lnTo>
                  <a:pt x="56853" y="21600"/>
                </a:lnTo>
                <a:lnTo>
                  <a:pt x="0" y="21600"/>
                </a:lnTo>
                <a:close/>
              </a:path>
              <a:path fill="lightenLess" w="56853" h="21600">
                <a:moveTo>
                  <a:pt x="0" y="0"/>
                </a:moveTo>
                <a:lnTo>
                  <a:pt x="56853" y="0"/>
                </a:lnTo>
                <a:lnTo>
                  <a:pt x="55453" y="1400"/>
                </a:lnTo>
                <a:lnTo>
                  <a:pt x="1400" y="1400"/>
                </a:lnTo>
                <a:close/>
              </a:path>
              <a:path fill="darken" w="56853" h="21600">
                <a:moveTo>
                  <a:pt x="56853" y="0"/>
                </a:moveTo>
                <a:lnTo>
                  <a:pt x="56853" y="21600"/>
                </a:lnTo>
                <a:lnTo>
                  <a:pt x="55453" y="20200"/>
                </a:lnTo>
                <a:lnTo>
                  <a:pt x="55453" y="1400"/>
                </a:lnTo>
                <a:close/>
              </a:path>
              <a:path fill="darkenLess" w="56853" h="21600">
                <a:moveTo>
                  <a:pt x="56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53" y="20200"/>
                </a:lnTo>
                <a:close/>
              </a:path>
              <a:path fill="lighten" w="56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b812f"/>
                </a:solidFill>
                <a:latin typeface="Garamond"/>
              </a:rPr>
              <a:t>Напишите формул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720" y="1655280"/>
            <a:ext cx="41054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равнение проекции скорости при равноускоренном движен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равнение равномерного движ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равнение равноускоренного движ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рмула для расчета перемещения при равноускоренном движении, если известны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"/>
              </a:rPr>
              <a:t>0,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58920" y="1773360"/>
          <a:ext cx="237816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73360"/>
                    <a:ext cx="23781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258920" y="3500280"/>
          <a:ext cx="2663640" cy="9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500280"/>
                    <a:ext cx="26636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47640" y="2708280"/>
          <a:ext cx="1943280" cy="6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2708280"/>
                    <a:ext cx="1943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619280" y="4581360"/>
          <a:ext cx="1800360" cy="95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581360"/>
                    <a:ext cx="180036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277920"/>
            <a:ext cx="814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втор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2880" y="1564920"/>
            <a:ext cx="8229600" cy="45306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965520" y="2406600"/>
            <a:ext cx="3004920" cy="2925000"/>
            <a:chOff x="965520" y="2406600"/>
            <a:chExt cx="3004920" cy="2925000"/>
          </a:xfrm>
        </p:grpSpPr>
        <p:sp>
          <p:nvSpPr>
            <p:cNvPr id="103" name=""/>
            <p:cNvSpPr/>
            <p:nvPr/>
          </p:nvSpPr>
          <p:spPr>
            <a:xfrm>
              <a:off x="1565280" y="2406600"/>
              <a:ext cx="2405160" cy="234648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5520" y="324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06600" y="487188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9240" y="306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429000" y="4390920"/>
              <a:ext cx="3614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2948040" y="4211640"/>
            <a:ext cx="480960" cy="44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48040" y="4211640"/>
                      <a:ext cx="48096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0" name=""/>
          <p:cNvGraphicFramePr/>
          <p:nvPr/>
        </p:nvGraphicFramePr>
        <p:xfrm>
          <a:off x="5473800" y="2166840"/>
          <a:ext cx="2047680" cy="13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2166840"/>
                    <a:ext cx="204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33920" y="3670200"/>
          <a:ext cx="2105280" cy="138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33920" y="3670200"/>
                    <a:ext cx="210528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азложение вектора скорости по ос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23840" y="2466720"/>
            <a:ext cx="0" cy="282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23840" y="5292720"/>
            <a:ext cx="306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23840" y="4330800"/>
            <a:ext cx="2286000" cy="961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06600" y="463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25760" y="4691160"/>
            <a:ext cx="241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09840" y="4330800"/>
            <a:ext cx="0" cy="961920"/>
          </a:xfrm>
          <a:prstGeom prst="line">
            <a:avLst/>
          </a:prstGeom>
          <a:ln w="3168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4320" y="5292720"/>
            <a:ext cx="222552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67440" y="4992840"/>
            <a:ext cx="357840" cy="59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25640" y="4871880"/>
          <a:ext cx="3618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4871880"/>
                    <a:ext cx="3618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115360" y="5413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3600" y="1564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5160" y="210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2480" y="5413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023840" y="4330800"/>
            <a:ext cx="2286000" cy="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23840" y="4330800"/>
            <a:ext cx="0" cy="96192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3720" y="4511520"/>
            <a:ext cx="5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32480" y="2406600"/>
          <a:ext cx="3028680" cy="8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2480" y="2406600"/>
                    <a:ext cx="302868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753080" y="3368520"/>
          <a:ext cx="2827080" cy="89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53080" y="3368520"/>
                    <a:ext cx="2827080" cy="8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05160" y="535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нцип независимости движения тел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2760" y="1804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гласно этому принципу, движение тела по различным направлениям можно рассматривать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езависимо друг от друг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нцип независимости движения тела связан с принципом независимости действия сил: каждая сила, действующая на тело сообщает телу соответствующее ускорение, которое не зависит от других си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625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мотрим движение тела, брошенного с высоты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начальной скоростью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 углом         к горизонту, если сопротивление воздуха пренебрежимо м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129120" y="3489480"/>
          <a:ext cx="720720" cy="66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9120" y="3489480"/>
                    <a:ext cx="72072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84080" y="2406600"/>
            <a:ext cx="6855120" cy="34275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раектория движ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723960" y="4390920"/>
            <a:ext cx="299880" cy="301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44560" y="3368520"/>
            <a:ext cx="541440" cy="1082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84080" y="1504440"/>
            <a:ext cx="0" cy="438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960" y="5834160"/>
            <a:ext cx="763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3480" y="3429000"/>
            <a:ext cx="5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4800" y="1444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99560" y="5413320"/>
            <a:ext cx="3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489480" y="2466720"/>
            <a:ext cx="0" cy="3367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7800" y="3549600"/>
            <a:ext cx="75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080" y="5773680"/>
            <a:ext cx="6072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71280" y="5232240"/>
            <a:ext cx="22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д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1160" y="42703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86000" y="3429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4080" y="4572000"/>
            <a:ext cx="601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080" y="3368520"/>
            <a:ext cx="601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080" y="342900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080" y="3489480"/>
            <a:ext cx="241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7640" y="4632480"/>
            <a:ext cx="47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000" y="3789360"/>
            <a:ext cx="60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467080"/>
            <a:ext cx="601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68520" y="2346480"/>
            <a:ext cx="301680" cy="301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960" y="4390920"/>
            <a:ext cx="301680" cy="301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08160" y="1744560"/>
            <a:ext cx="2076480" cy="543600"/>
            <a:chOff x="3008160" y="1744560"/>
            <a:chExt cx="2076480" cy="543600"/>
          </a:xfrm>
        </p:grpSpPr>
        <p:sp>
          <p:nvSpPr>
            <p:cNvPr id="168" name=""/>
            <p:cNvSpPr/>
            <p:nvPr/>
          </p:nvSpPr>
          <p:spPr>
            <a:xfrm>
              <a:off x="3008160" y="1778040"/>
              <a:ext cx="207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V = V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0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94920" y="1744560"/>
              <a:ext cx="283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3720" y="1744560"/>
              <a:ext cx="283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315120" y="1986120"/>
            <a:ext cx="874800" cy="1082520"/>
            <a:chOff x="6315120" y="1986120"/>
            <a:chExt cx="874800" cy="1082520"/>
          </a:xfrm>
        </p:grpSpPr>
        <p:sp>
          <p:nvSpPr>
            <p:cNvPr id="172" name=""/>
            <p:cNvSpPr/>
            <p:nvPr/>
          </p:nvSpPr>
          <p:spPr>
            <a:xfrm>
              <a:off x="6315120" y="1986120"/>
              <a:ext cx="0" cy="10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56320" y="2225520"/>
              <a:ext cx="63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6800" y="2286000"/>
              <a:ext cx="2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3720" y="30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Движение по оси 0Х – равномерное, так как по этой оси отсутствуют действующие силы</a:t>
            </a:r>
            <a:br>
              <a:rPr sz="38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равнение движения в общем ви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равнение движения после подстановки начальных услов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начение скорости остается неизмен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052960" y="1625760"/>
          <a:ext cx="26751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2960" y="1625760"/>
                    <a:ext cx="26751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052960" y="3129120"/>
          <a:ext cx="2684520" cy="68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2960" y="3129120"/>
                    <a:ext cx="268452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753080" y="4632480"/>
          <a:ext cx="384948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53080" y="4632480"/>
                    <a:ext cx="38494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5113440" y="2527200"/>
            <a:ext cx="2644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73560" y="3970440"/>
            <a:ext cx="2644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1880" y="5473800"/>
            <a:ext cx="3668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Движение по оси 0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Y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– равноускоренное, так как на тело действует сила тяжест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равнение движения в общем ви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равнение движения после подстановки начальных услов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равнение скорости в общем ви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равнение скорости после подстановки начальных услов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963720"/>
          <a:ext cx="409104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63720"/>
                    <a:ext cx="40910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4932360" y="2346480"/>
            <a:ext cx="3365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1880" y="3610080"/>
            <a:ext cx="34880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152960" y="2106720"/>
          <a:ext cx="4991040" cy="15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2960" y="2106720"/>
                    <a:ext cx="499104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052960" y="4572000"/>
            <a:ext cx="3246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73560" y="3670200"/>
          <a:ext cx="300672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73560" y="3670200"/>
                    <a:ext cx="30067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932360" y="5713560"/>
            <a:ext cx="3365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113440" y="4811760"/>
          <a:ext cx="300672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3440" y="4811760"/>
                    <a:ext cx="3006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8:19:07Z</dcterms:created>
  <dc:creator>Лиана</dc:creator>
  <dc:description/>
  <dc:language>en-US</dc:language>
  <cp:lastModifiedBy>Лиана</cp:lastModifiedBy>
  <dcterms:modified xsi:type="dcterms:W3CDTF">2008-02-10T00:08:49Z</dcterms:modified>
  <cp:revision>19</cp:revision>
  <dc:subject/>
  <dc:title>Слайд 1</dc:title>
</cp:coreProperties>
</file>